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6.jpeg" ContentType="image/jpeg"/>
  <Override PartName="/ppt/media/image27.jpeg" ContentType="image/jpeg"/>
  <Override PartName="/ppt/media/image13.jpeg" ContentType="image/jpeg"/>
  <Override PartName="/ppt/media/image4.png" ContentType="image/png"/>
  <Override PartName="/ppt/media/image3.jpeg" ContentType="image/jpeg"/>
  <Override PartName="/ppt/media/image24.jpeg" ContentType="image/jpeg"/>
  <Override PartName="/ppt/media/image28.jpeg" ContentType="image/jpeg"/>
  <Override PartName="/ppt/media/image26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7.jpeg" ContentType="image/jpeg"/>
  <Override PartName="/ppt/media/image14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6868F-F1BD-4306-AAA3-110E0A1EF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3E639-0F82-4212-BC4B-F500E8C1E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3DC8A-BE97-4900-AE2E-25BF3775A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31132-3FA8-4542-9EE9-AECE172E2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9C628C-26FB-48C3-8ED7-E6378ED4A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864F10-1046-4F08-8505-46C460F44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DC2D57-A454-4D1A-AA22-D448E7DAD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47EFBB-ABFA-4634-94F6-72C3CDA9E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25EE40-4D3C-4B3C-A896-72EF55564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15D248-8661-4C5E-B94D-E44BE1A2E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0A5456-1EBB-4954-8C55-80977BF9E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01978-1B68-4F8C-BDD5-F0B110496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6AA2AC-0CF3-4BD3-9E2D-30115AAA6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924E8D-8238-4662-81D9-E2C037CE9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ADD9D6-519E-43F3-B7D4-BFCA84B48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D32F63-4C9C-49F9-8BB4-2C043247D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8B1F4B-C204-43E5-AAC3-14A314583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A226B-47F7-4DFE-85B6-94412D1B3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9D848-AF4C-483E-9A1F-F6A66BE34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00CF0-9A33-454F-8388-DA427181B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598A6-5050-4FF0-A866-E10126724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6C78A-9880-4948-B176-FCCAA8B7F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D0A56-1B2D-41D9-B8ED-61CBDDFCA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3D5CA-6F4B-41B2-BE86-E6A249CC6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prstGeom prst="pie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prstGeom prst="pie">
              <a:avLst/>
            </a:pr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prstGeom prst="pie">
            <a:avLst/>
          </a:pr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prstGeom prst="pie">
              <a:avLst/>
            </a:pr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prstGeom prst="pie">
              <a:avLst/>
            </a:pr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51193-19C2-4495-B2B4-4636403AEEC3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prstGeom prst="pie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prstGeom prst="pie">
              <a:avLst/>
            </a:pr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prstGeom prst="pie">
            <a:avLst/>
          </a:pr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prstGeom prst="pie">
              <a:avLst/>
            </a:pr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prstGeom prst="pie">
              <a:avLst/>
            </a:pr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291C7-1F38-446A-8BAF-4993335C9698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image" Target="../media/image27.jpeg"/><Relationship Id="rId7" Type="http://schemas.openxmlformats.org/officeDocument/2006/relationships/image" Target="../media/image28.jpeg"/><Relationship Id="rId8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71680" y="42876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5400" spc="-1" strike="noStrike">
                <a:solidFill>
                  <a:srgbClr val="e3e3ff"/>
                </a:solidFill>
                <a:latin typeface="Arial"/>
              </a:rPr>
              <a:t>Orígenes de la civilización del Perú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23" name="Picture 5" descr="http://www.peru.info/mensajeshtm/Imagenes/libro2.jpg"/>
          <p:cNvPicPr/>
          <p:nvPr/>
        </p:nvPicPr>
        <p:blipFill>
          <a:blip r:embed="rId1"/>
          <a:stretch/>
        </p:blipFill>
        <p:spPr>
          <a:xfrm>
            <a:off x="2857680" y="2054160"/>
            <a:ext cx="378612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400" spc="-1" strike="noStrike">
                <a:solidFill>
                  <a:srgbClr val="e3e3ff"/>
                </a:solidFill>
                <a:latin typeface="Arial"/>
              </a:rPr>
              <a:t>Teoría inmigracionista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Arial"/>
              </a:rPr>
              <a:t>Propuesta por el arqueólogo alemán Max Uh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Arial"/>
              </a:rPr>
              <a:t>Sostiene que los primeros pobladores habían venido por el mar desde Centroamérica y México trayendo elementos como la lengu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Picture 5" descr="Ver imagen en tamaño completo"/>
          <p:cNvPicPr/>
          <p:nvPr/>
        </p:nvPicPr>
        <p:blipFill>
          <a:blip r:embed="rId1"/>
          <a:stretch/>
        </p:blipFill>
        <p:spPr>
          <a:xfrm>
            <a:off x="6993000" y="4481640"/>
            <a:ext cx="215100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400" spc="-1" strike="noStrike">
                <a:solidFill>
                  <a:srgbClr val="e3e3ff"/>
                </a:solidFill>
                <a:latin typeface="Arial"/>
              </a:rPr>
              <a:t>La hipótesis de Rafael Larco Hoyl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Arial"/>
              </a:rPr>
              <a:t>Este investigador planteó en 1939, que el origen de la civilización andina estaba en la Costa, específicamente en Cupisniqu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Arial"/>
              </a:rPr>
              <a:t>Sin embargo Ruth Shady demostró que había una civilización más antigua con una organización política y social compleja y un centro religioso y monumental bastante articulad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Picture 5" descr="02m_21"/>
          <p:cNvPicPr/>
          <p:nvPr/>
        </p:nvPicPr>
        <p:blipFill>
          <a:blip r:embed="rId1"/>
          <a:stretch/>
        </p:blipFill>
        <p:spPr>
          <a:xfrm>
            <a:off x="7215120" y="4665600"/>
            <a:ext cx="1928880" cy="21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400" spc="-1" strike="noStrike">
                <a:solidFill>
                  <a:srgbClr val="e3e3ff"/>
                </a:solidFill>
                <a:latin typeface="Arial"/>
              </a:rPr>
              <a:t>     </a:t>
            </a:r>
            <a:r>
              <a:rPr b="0" lang="es-PE" sz="4400" spc="-1" strike="noStrike">
                <a:solidFill>
                  <a:srgbClr val="e3e3ff"/>
                </a:solidFill>
                <a:latin typeface="Arial"/>
              </a:rPr>
              <a:t>TAREA: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599840"/>
            <a:ext cx="8229600" cy="197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63880" indent="-2638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63880" indent="-2638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Arial"/>
              </a:rPr>
              <a:t>Investiga los primeros asentamientos humanos en el Perú con su respectiva descripción. (Por ejemplo Cara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Picture 4" descr="Ver imagen en tamaño completo"/>
          <p:cNvPicPr/>
          <p:nvPr/>
        </p:nvPicPr>
        <p:blipFill>
          <a:blip r:embed="rId1"/>
          <a:stretch/>
        </p:blipFill>
        <p:spPr>
          <a:xfrm>
            <a:off x="642960" y="285840"/>
            <a:ext cx="2857320" cy="17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400" spc="-1" strike="noStrike">
                <a:solidFill>
                  <a:srgbClr val="e3e3ff"/>
                </a:solidFill>
                <a:latin typeface="Arial"/>
              </a:rPr>
              <a:t>Link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Arial"/>
              </a:rPr>
              <a:t>YouTube - Las Piramides de Caral Parte 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7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400" spc="-1" strike="noStrike">
                <a:solidFill>
                  <a:srgbClr val="e3e3ff"/>
                </a:solidFill>
                <a:latin typeface="Arial"/>
              </a:rPr>
              <a:t>1. Caral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6840" y="1071720"/>
            <a:ext cx="8472600" cy="502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93560" indent="-493560">
              <a:spcBef>
                <a:spcPts val="700"/>
              </a:spcBef>
              <a:buClr>
                <a:srgbClr val="e3e3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PE" sz="2800" spc="-1" strike="noStrike">
                <a:solidFill>
                  <a:srgbClr val="ffffff"/>
                </a:solidFill>
                <a:latin typeface="Arial"/>
              </a:rPr>
              <a:t>Ubicación: Margen izquierda del río Supe (costa centra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93560" indent="-493560">
              <a:spcBef>
                <a:spcPts val="700"/>
              </a:spcBef>
              <a:buClr>
                <a:srgbClr val="e3e3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ffffff"/>
                </a:solidFill>
                <a:latin typeface="Arial"/>
              </a:rPr>
              <a:t>Antigüedad: 2 627 y 2100 años a. 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93560" indent="-493560">
              <a:spcBef>
                <a:spcPts val="700"/>
              </a:spcBef>
              <a:buClr>
                <a:srgbClr val="e3e3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ffffff"/>
                </a:solidFill>
                <a:latin typeface="Arial"/>
              </a:rPr>
              <a:t>Fue una sociedad compleja, gobernada por sacerdotes que cumplían funciones tanto políticas como religiosa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93560" indent="-493560">
              <a:spcBef>
                <a:spcPts val="700"/>
              </a:spcBef>
              <a:buClr>
                <a:srgbClr val="e3e3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ffffff"/>
                </a:solidFill>
                <a:latin typeface="Arial"/>
              </a:rPr>
              <a:t>Primera civilización del América, descubierto por la arqueóloga peruana Ruth Shad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93560" indent="-493560">
              <a:spcBef>
                <a:spcPts val="700"/>
              </a:spcBef>
              <a:buClr>
                <a:srgbClr val="e3e3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ffffff"/>
                </a:solidFill>
                <a:latin typeface="Arial"/>
              </a:rPr>
              <a:t>La ciudad presenta el anfiteatro, el templo de la Banqueta, el templo mayor y las unidades residencial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93560" indent="-49356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e3e3ff"/>
                </a:solidFill>
                <a:latin typeface="Arial"/>
              </a:rPr>
              <a:t>CARAL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54" name="Picture 8" descr="Caral: Patrimonio Cultural de la humanidad"/>
          <p:cNvPicPr/>
          <p:nvPr/>
        </p:nvPicPr>
        <p:blipFill>
          <a:blip r:embed="rId1"/>
          <a:stretch/>
        </p:blipFill>
        <p:spPr>
          <a:xfrm>
            <a:off x="0" y="1628640"/>
            <a:ext cx="9144000" cy="517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43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600" spc="-1" strike="noStrike">
                <a:solidFill>
                  <a:srgbClr val="e3e3ff"/>
                </a:solidFill>
                <a:latin typeface="Arial"/>
              </a:rPr>
              <a:t>2. Tablada de Lurín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1430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ffffff"/>
                </a:solidFill>
                <a:latin typeface="Arial"/>
              </a:rPr>
              <a:t>Ubicación: Sur de Lim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ffffff"/>
                </a:solidFill>
                <a:latin typeface="Arial"/>
              </a:rPr>
              <a:t>Descubierto por: Josefina Ramos de Cox y alumno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ffffff"/>
                </a:solidFill>
                <a:latin typeface="Arial"/>
              </a:rPr>
              <a:t>Formado por recintos de barro y piedr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ffffff"/>
                </a:solidFill>
                <a:latin typeface="Arial"/>
              </a:rPr>
              <a:t>Antigüedad: 4 500 a. 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ffffff"/>
                </a:solidFill>
                <a:latin typeface="Arial"/>
              </a:rPr>
              <a:t>Se cree que fueron residencias primitivas y rudimentarias que los pobladores usaron durante el sedentarism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2" descr="http://sisbib.unmsm.edu.pe/Exposiciones/FundLima/limaprehisp/images/pag5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7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400" spc="-1" strike="noStrike">
                <a:solidFill>
                  <a:srgbClr val="e3e3ff"/>
                </a:solidFill>
                <a:latin typeface="Arial"/>
              </a:rPr>
              <a:t>3. Cerro Paloma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071720"/>
            <a:ext cx="8229600" cy="502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Arial"/>
              </a:rPr>
              <a:t>En 1966 Frederic Engel descubrió un poblado de gran antigüedad a 54 km. Al sur de Lim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Arial"/>
              </a:rPr>
              <a:t>Hipótesis de Frederic: Fue el primer monumento arquitectónico; pero se sabe que fue residencia temporal de un clan de 10 a 15 familia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e3e3ff"/>
                </a:solidFill>
                <a:latin typeface="Arial"/>
              </a:rPr>
              <a:t>CERRO PALOMA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61" name="Picture 5" descr="Photo: F.M. Rivera"/>
          <p:cNvPicPr/>
          <p:nvPr/>
        </p:nvPicPr>
        <p:blipFill>
          <a:blip r:embed="rId1"/>
          <a:stretch/>
        </p:blipFill>
        <p:spPr>
          <a:xfrm>
            <a:off x="324000" y="1662120"/>
            <a:ext cx="8135640" cy="51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7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400" spc="-1" strike="noStrike">
                <a:solidFill>
                  <a:srgbClr val="e3e3ff"/>
                </a:solidFill>
                <a:latin typeface="Arial"/>
              </a:rPr>
              <a:t>PERIÓDIFICACIÓN DEL PERÚ ANTIGUO (John Rowe)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25" name="Picture 2" descr="http://www.kalipedia.com/kalipediamedia/historia/media/200806/05/hisperu/20080605klphishpe_1_Ies_SCO.jpg"/>
          <p:cNvPicPr/>
          <p:nvPr/>
        </p:nvPicPr>
        <p:blipFill>
          <a:blip r:embed="rId1"/>
          <a:stretch/>
        </p:blipFill>
        <p:spPr>
          <a:xfrm>
            <a:off x="2071800" y="1428840"/>
            <a:ext cx="4714920" cy="54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7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400" spc="-1" strike="noStrike">
                <a:solidFill>
                  <a:srgbClr val="e3e3ff"/>
                </a:solidFill>
                <a:latin typeface="Arial"/>
              </a:rPr>
              <a:t>4. Huaca Prieta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142560" y="1071720"/>
            <a:ext cx="9001080" cy="502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Arial"/>
              </a:rPr>
              <a:t>Yacimiento muy antiguo ubicado en la playa de Chicam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Arial"/>
              </a:rPr>
              <a:t>Descubierto por Junius Bird ( 1946 y 1947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Arial"/>
              </a:rPr>
              <a:t>Se llama así porque se encontró mucha ceniza y desperdicios en descomposición (color oscuro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Arial"/>
              </a:rPr>
              <a:t>El hombre de Huaca Prieta era: sedentario, con vivienda pobre, practicaba la pesca, pero no conocía el maíz ni elaboraba vasija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7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400" spc="-1" strike="noStrike">
                <a:solidFill>
                  <a:srgbClr val="e3e3ff"/>
                </a:solidFill>
                <a:latin typeface="Arial"/>
              </a:rPr>
              <a:t>Hombre de Huaca Prieta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65" name="Picture 2" descr="http://www.monografias.com/trabajos68/primeros-hombres-peru/primeros-hombres-peru_image009.jpg"/>
          <p:cNvPicPr/>
          <p:nvPr/>
        </p:nvPicPr>
        <p:blipFill>
          <a:blip r:embed="rId1"/>
          <a:stretch/>
        </p:blipFill>
        <p:spPr>
          <a:xfrm>
            <a:off x="571680" y="1071720"/>
            <a:ext cx="8143560" cy="57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62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400" spc="-1" strike="noStrike">
                <a:solidFill>
                  <a:srgbClr val="e3e3ff"/>
                </a:solidFill>
                <a:latin typeface="Arial"/>
              </a:rPr>
              <a:t>5. Kotosh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928440"/>
            <a:ext cx="8229600" cy="51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Arial"/>
              </a:rPr>
              <a:t>Ubicación: A 5 km. de Huánuc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Arial"/>
              </a:rPr>
              <a:t>Descubierto: Por una expedición japonesa al mando de Seichi Izumi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Arial"/>
              </a:rPr>
              <a:t>Cronología: 2 500 a. 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Arial"/>
              </a:rPr>
              <a:t>Esta construcción fue dividida en 6 fases: Kotosh mito, Wairajirka, Kotosh, Chavín, Sajara Patac e Higueras. La más antigua se divide en: Templo blanco, manos cruzadas y el templo de los Nichito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e3e3ff"/>
                </a:solidFill>
                <a:latin typeface="Arial"/>
              </a:rPr>
              <a:t>KOTOSH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69" name="Picture 5" descr="KOTOSH%2B1"/>
          <p:cNvPicPr/>
          <p:nvPr/>
        </p:nvPicPr>
        <p:blipFill>
          <a:blip r:embed="rId1"/>
          <a:stretch/>
        </p:blipFill>
        <p:spPr>
          <a:xfrm>
            <a:off x="179280" y="1700280"/>
            <a:ext cx="8964720" cy="51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e3e3ff"/>
                </a:solidFill>
                <a:latin typeface="Arial"/>
              </a:rPr>
              <a:t>TEMPLO DE LAS MANOS CRUZADAS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71" name="Picture 5" descr="manoscruzadaskotosh"/>
          <p:cNvPicPr/>
          <p:nvPr/>
        </p:nvPicPr>
        <p:blipFill>
          <a:blip r:embed="rId1"/>
          <a:stretch/>
        </p:blipFill>
        <p:spPr>
          <a:xfrm>
            <a:off x="0" y="1700280"/>
            <a:ext cx="9144000" cy="51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43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400" spc="-1" strike="noStrike">
                <a:solidFill>
                  <a:srgbClr val="e3e3ff"/>
                </a:solidFill>
                <a:latin typeface="Arial"/>
              </a:rPr>
              <a:t>6. El templo de Chuquitanta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57200" y="1143000"/>
            <a:ext cx="83296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ffffff"/>
                </a:solidFill>
                <a:latin typeface="Arial"/>
              </a:rPr>
              <a:t>Ubicación: Norte de Lima, margen del Río Chilló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ffffff"/>
                </a:solidFill>
                <a:latin typeface="Arial"/>
              </a:rPr>
              <a:t>Conocido como “El paraíso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ffffff"/>
                </a:solidFill>
                <a:latin typeface="Arial"/>
              </a:rPr>
              <a:t>Descubierto por: Frederic Enge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ffffff"/>
                </a:solidFill>
                <a:latin typeface="Arial"/>
              </a:rPr>
              <a:t>Presenta 7 unidades arquitectónicas, 5 viviendas y 2 centros ceremoniales.(Material utilizado como la piedra y barro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ffffff"/>
                </a:solidFill>
                <a:latin typeface="Arial"/>
              </a:rPr>
              <a:t>Dieta básica: A base de productos marino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7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400" spc="-1" strike="noStrike">
                <a:solidFill>
                  <a:srgbClr val="e3e3ff"/>
                </a:solidFill>
                <a:latin typeface="Arial"/>
              </a:rPr>
              <a:t>Templo de Chuquitanta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75" name="Picture 2" descr="http://www.geocities.com/huacasanmarcos/paraiso.jpg"/>
          <p:cNvPicPr/>
          <p:nvPr/>
        </p:nvPicPr>
        <p:blipFill>
          <a:blip r:embed="rId1"/>
          <a:stretch/>
        </p:blipFill>
        <p:spPr>
          <a:xfrm>
            <a:off x="0" y="1428840"/>
            <a:ext cx="9144000" cy="54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400" spc="-1" strike="noStrike">
                <a:solidFill>
                  <a:srgbClr val="e3e3ff"/>
                </a:solidFill>
                <a:latin typeface="Arial"/>
              </a:rPr>
              <a:t>Inicio del Formativo Andino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77" name="Picture 5" descr="http://ec.kalipedia.com/kalipediamedia/historia/media/200807/31/hisecuador/20080731klphishec_25_Ies_SCO.jpg"/>
          <p:cNvPicPr/>
          <p:nvPr/>
        </p:nvPicPr>
        <p:blipFill>
          <a:blip r:embed="rId1"/>
          <a:stretch/>
        </p:blipFill>
        <p:spPr>
          <a:xfrm>
            <a:off x="0" y="1071720"/>
            <a:ext cx="4214880" cy="25239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7" descr="http://www.chubut.gov.ar/infraestructura/imagenes/Trevelin%2010.jpg"/>
          <p:cNvPicPr/>
          <p:nvPr/>
        </p:nvPicPr>
        <p:blipFill>
          <a:blip r:embed="rId2"/>
          <a:stretch/>
        </p:blipFill>
        <p:spPr>
          <a:xfrm>
            <a:off x="4214880" y="1071720"/>
            <a:ext cx="4929120" cy="25002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1" descr="http://imagenes.acambiode.com/img-bbdd/WS1004.jpg"/>
          <p:cNvPicPr/>
          <p:nvPr/>
        </p:nvPicPr>
        <p:blipFill>
          <a:blip r:embed="rId3"/>
          <a:stretch/>
        </p:blipFill>
        <p:spPr>
          <a:xfrm>
            <a:off x="5715000" y="3522600"/>
            <a:ext cx="3429000" cy="33354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3" descr="http://www.kalipedia.com/kalipediamedia/historia/media/200807/31/hisecuador/20080731klphishec_19_Ies_SCO.jpg"/>
          <p:cNvPicPr/>
          <p:nvPr/>
        </p:nvPicPr>
        <p:blipFill>
          <a:blip r:embed="rId4"/>
          <a:stretch/>
        </p:blipFill>
        <p:spPr>
          <a:xfrm>
            <a:off x="0" y="3643200"/>
            <a:ext cx="5643720" cy="32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http://www.huariperu.com/im%C3%A1genes/folkloretraje.jpg"/>
          <p:cNvPicPr/>
          <p:nvPr/>
        </p:nvPicPr>
        <p:blipFill>
          <a:blip r:embed="rId1"/>
          <a:stretch/>
        </p:blipFill>
        <p:spPr>
          <a:xfrm>
            <a:off x="285840" y="1071720"/>
            <a:ext cx="2071440" cy="21906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4" descr="http://plaverecuador.com/productos/300px-Tipos_de_frejol.jpg"/>
          <p:cNvPicPr/>
          <p:nvPr/>
        </p:nvPicPr>
        <p:blipFill>
          <a:blip r:embed="rId2"/>
          <a:stretch/>
        </p:blipFill>
        <p:spPr>
          <a:xfrm>
            <a:off x="2357280" y="1071720"/>
            <a:ext cx="2643480" cy="224928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6" descr="http://3.bp.blogspot.com/_gsus8BVdNWc/RyJLzptALNI/AAAAAAAABF4/mxAvUq5UzI4/s320/calabazas.jpg"/>
          <p:cNvPicPr/>
          <p:nvPr/>
        </p:nvPicPr>
        <p:blipFill>
          <a:blip r:embed="rId3"/>
          <a:stretch/>
        </p:blipFill>
        <p:spPr>
          <a:xfrm>
            <a:off x="5072040" y="1000080"/>
            <a:ext cx="3000240" cy="23576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8" descr="http://www.ecofan.com.mx/images/FlorAlgodon.jpg"/>
          <p:cNvPicPr/>
          <p:nvPr/>
        </p:nvPicPr>
        <p:blipFill>
          <a:blip r:embed="rId4"/>
          <a:stretch/>
        </p:blipFill>
        <p:spPr>
          <a:xfrm>
            <a:off x="142920" y="3357720"/>
            <a:ext cx="1714320" cy="207144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0" descr="http://www.parmasac.com/main/wp-content/uploads/2008/04/maiz-03.jpg"/>
          <p:cNvPicPr/>
          <p:nvPr/>
        </p:nvPicPr>
        <p:blipFill>
          <a:blip r:embed="rId5"/>
          <a:stretch/>
        </p:blipFill>
        <p:spPr>
          <a:xfrm>
            <a:off x="1857240" y="3357720"/>
            <a:ext cx="1714680" cy="21430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2" descr="http://www.inia.gob.pe/eventos/evento0333/foto1.jpg"/>
          <p:cNvPicPr/>
          <p:nvPr/>
        </p:nvPicPr>
        <p:blipFill>
          <a:blip r:embed="rId6"/>
          <a:stretch/>
        </p:blipFill>
        <p:spPr>
          <a:xfrm>
            <a:off x="3571920" y="3429000"/>
            <a:ext cx="2571840" cy="207180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14" descr="http://www.paripassu.cl/images/jardin.JPG"/>
          <p:cNvPicPr/>
          <p:nvPr/>
        </p:nvPicPr>
        <p:blipFill>
          <a:blip r:embed="rId7"/>
          <a:stretch/>
        </p:blipFill>
        <p:spPr>
          <a:xfrm>
            <a:off x="6143760" y="3429000"/>
            <a:ext cx="2485800" cy="20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0" y="285480"/>
            <a:ext cx="9144000" cy="61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Arial"/>
              </a:rPr>
              <a:t>El hombre andino creó una de las culturas básicas y autónomas de la humanidad, tan importante como lo llegaron a ser las culturas de Grecia, Egipto, Mesopotámica, India, China y o la de los Maya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Arial"/>
              </a:rPr>
              <a:t>Hace 8.000 años cultivó el </a:t>
            </a:r>
            <a:r>
              <a:rPr b="1" lang="es-PE" sz="2400" spc="-1" strike="noStrike">
                <a:solidFill>
                  <a:srgbClr val="ffffff"/>
                </a:solidFill>
                <a:latin typeface="Arial"/>
              </a:rPr>
              <a:t>frejol</a:t>
            </a:r>
            <a:r>
              <a:rPr b="0" lang="es-PE" sz="2400" spc="-1" strike="noStrike">
                <a:solidFill>
                  <a:srgbClr val="ffffff"/>
                </a:solidFill>
                <a:latin typeface="Arial"/>
              </a:rPr>
              <a:t> y la </a:t>
            </a:r>
            <a:r>
              <a:rPr b="1" lang="es-PE" sz="2400" spc="-1" strike="noStrike">
                <a:solidFill>
                  <a:srgbClr val="ffffff"/>
                </a:solidFill>
                <a:latin typeface="Arial"/>
              </a:rPr>
              <a:t>calabaza</a:t>
            </a:r>
            <a:r>
              <a:rPr b="0" lang="es-PE" sz="2400" spc="-1" strike="noStrike">
                <a:solidFill>
                  <a:srgbClr val="ffffff"/>
                </a:solidFill>
                <a:latin typeface="Arial"/>
              </a:rPr>
              <a:t>. Después la </a:t>
            </a:r>
            <a:r>
              <a:rPr b="1" lang="es-PE" sz="2400" spc="-1" strike="noStrike">
                <a:solidFill>
                  <a:srgbClr val="ffffff"/>
                </a:solidFill>
                <a:latin typeface="Arial"/>
              </a:rPr>
              <a:t>quinua</a:t>
            </a:r>
            <a:r>
              <a:rPr b="0" lang="es-PE" sz="2400" spc="-1" strike="noStrike">
                <a:solidFill>
                  <a:srgbClr val="ffffff"/>
                </a:solidFill>
                <a:latin typeface="Arial"/>
              </a:rPr>
              <a:t>, la </a:t>
            </a:r>
            <a:r>
              <a:rPr b="1" lang="es-PE" sz="2400" spc="-1" strike="noStrike">
                <a:solidFill>
                  <a:srgbClr val="ffffff"/>
                </a:solidFill>
                <a:latin typeface="Arial"/>
              </a:rPr>
              <a:t>papa</a:t>
            </a:r>
            <a:r>
              <a:rPr b="0" lang="es-PE" sz="2400" spc="-1" strike="noStrike">
                <a:solidFill>
                  <a:srgbClr val="ffffff"/>
                </a:solidFill>
                <a:latin typeface="Arial"/>
              </a:rPr>
              <a:t> (patatas) y mucho más recientemente el </a:t>
            </a:r>
            <a:r>
              <a:rPr b="1" lang="es-PE" sz="2400" spc="-1" strike="noStrike">
                <a:solidFill>
                  <a:srgbClr val="ffffff"/>
                </a:solidFill>
                <a:latin typeface="Arial"/>
              </a:rPr>
              <a:t>algodón</a:t>
            </a:r>
            <a:r>
              <a:rPr b="0" lang="es-PE" sz="2400" spc="-1" strike="noStrike">
                <a:solidFill>
                  <a:srgbClr val="ffffff"/>
                </a:solidFill>
                <a:latin typeface="Arial"/>
              </a:rPr>
              <a:t> y el </a:t>
            </a:r>
            <a:r>
              <a:rPr b="1" lang="es-PE" sz="2400" spc="-1" strike="noStrike">
                <a:solidFill>
                  <a:srgbClr val="ffffff"/>
                </a:solidFill>
                <a:latin typeface="Arial"/>
              </a:rPr>
              <a:t>maíz</a:t>
            </a:r>
            <a:r>
              <a:rPr b="0" lang="es-PE" sz="2400" spc="-1" strike="noStrike">
                <a:solidFill>
                  <a:srgbClr val="ffffff"/>
                </a:solidFill>
                <a:latin typeface="Arial"/>
              </a:rPr>
              <a:t>. Domesticó mamíferos (camélidos) como la </a:t>
            </a:r>
            <a:r>
              <a:rPr b="1" lang="es-PE" sz="2400" spc="-1" strike="noStrike">
                <a:solidFill>
                  <a:srgbClr val="ffffff"/>
                </a:solidFill>
                <a:latin typeface="Arial"/>
              </a:rPr>
              <a:t>llama</a:t>
            </a:r>
            <a:r>
              <a:rPr b="0" lang="es-PE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es-PE" sz="2400" spc="-1" strike="noStrike">
                <a:solidFill>
                  <a:srgbClr val="ffffff"/>
                </a:solidFill>
                <a:latin typeface="Arial"/>
              </a:rPr>
              <a:t>alpaca</a:t>
            </a:r>
            <a:r>
              <a:rPr b="0" lang="es-PE" sz="2400" spc="-1" strike="noStrike">
                <a:solidFill>
                  <a:srgbClr val="ffffff"/>
                </a:solidFill>
                <a:latin typeface="Arial"/>
              </a:rPr>
              <a:t> y la </a:t>
            </a:r>
            <a:r>
              <a:rPr b="1" lang="es-PE" sz="2400" spc="-1" strike="noStrike">
                <a:solidFill>
                  <a:srgbClr val="ffffff"/>
                </a:solidFill>
                <a:latin typeface="Arial"/>
              </a:rPr>
              <a:t>vicuña</a:t>
            </a:r>
            <a:r>
              <a:rPr b="0" lang="es-PE" sz="2400" spc="-1" strike="noStrike">
                <a:solidFill>
                  <a:srgbClr val="ffffff"/>
                </a:solidFill>
                <a:latin typeface="Arial"/>
              </a:rPr>
              <a:t>. También extrajo del Pacífico pescado y mariscos.</a:t>
            </a:r>
            <a:br>
              <a:rPr sz="2400"/>
            </a:br>
            <a:br>
              <a:rPr sz="2400"/>
            </a:br>
            <a:r>
              <a:rPr b="0" lang="es-PE" sz="2400" spc="-1" strike="noStrike">
                <a:solidFill>
                  <a:srgbClr val="ffffff"/>
                </a:solidFill>
                <a:latin typeface="Arial"/>
              </a:rPr>
              <a:t>Hacia el 2.000 AC organizaron el trabajo, construyeron canales y comenzaron a hacerse sedentarios. Acabaron estratificándose y comenzaron a surgir otras nuevas culturas, de carácter guerrero y conquistador, que se extendieron por todo el territorio andin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s-PE" sz="4400" spc="-1" strike="noStrike">
                <a:solidFill>
                  <a:srgbClr val="e3e3ff"/>
                </a:solidFill>
                <a:latin typeface="Arial"/>
              </a:rPr>
              <a:t>JOHN ROWE</a:t>
            </a:r>
            <a:br>
              <a:rPr sz="4400"/>
            </a:b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27" name="Picture 2" descr="Ver imagen en tamaño completo"/>
          <p:cNvPicPr/>
          <p:nvPr/>
        </p:nvPicPr>
        <p:blipFill>
          <a:blip r:embed="rId1"/>
          <a:stretch/>
        </p:blipFill>
        <p:spPr>
          <a:xfrm>
            <a:off x="2857680" y="1714680"/>
            <a:ext cx="3535200" cy="51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400" spc="-1" strike="noStrike">
                <a:solidFill>
                  <a:srgbClr val="e3e3ff"/>
                </a:solidFill>
                <a:latin typeface="Arial"/>
              </a:rPr>
              <a:t>Cambios en el periodo inicial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Arial"/>
              </a:rPr>
              <a:t>Descubrimiento de la cerámic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Arial"/>
              </a:rPr>
              <a:t>Aldeas y centros monumentales se mudaron tierra adentr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Arial"/>
              </a:rPr>
              <a:t>La agricultura fue el medio de subsistencia más important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400" spc="-1" strike="noStrike">
                <a:solidFill>
                  <a:srgbClr val="e3e3ff"/>
                </a:solidFill>
                <a:latin typeface="Arial"/>
              </a:rPr>
              <a:t>Link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Arial"/>
              </a:rPr>
              <a:t>YouTube - COSMOVISION ANDI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Arial"/>
              </a:rPr>
              <a:t>YouTube - Simbolismo de la Cultura Andi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Arial"/>
              </a:rPr>
              <a:t>YouTube - Gran Historia Interactiva del Perú / Nuestros ancestros – Parac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8" name=""/>
          <p:cNvGraphicFramePr/>
          <p:nvPr/>
        </p:nvGraphicFramePr>
        <p:xfrm>
          <a:off x="357120" y="1187280"/>
          <a:ext cx="8229600" cy="5670720"/>
        </p:xfrm>
        <a:graphic>
          <a:graphicData uri="http://schemas.openxmlformats.org/drawingml/2006/table">
            <a:tbl>
              <a:tblPr/>
              <a:tblGrid>
                <a:gridCol w="1542960"/>
                <a:gridCol w="1785960"/>
                <a:gridCol w="4900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ronologí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iodo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ncipales cultura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800" spc="-1" strike="noStrike">
                          <a:solidFill>
                            <a:srgbClr val="463416"/>
                          </a:solidFill>
                          <a:latin typeface="Arial"/>
                        </a:rPr>
                        <a:t>1450 d. C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800" spc="-1" strike="noStrike">
                          <a:solidFill>
                            <a:srgbClr val="463416"/>
                          </a:solidFill>
                          <a:latin typeface="Arial"/>
                        </a:rPr>
                        <a:t>Horizonte tardí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800" spc="-1" strike="noStrike">
                          <a:solidFill>
                            <a:srgbClr val="463416"/>
                          </a:solidFill>
                          <a:latin typeface="Arial"/>
                        </a:rPr>
                        <a:t>Inca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800" spc="-1" strike="noStrike">
                          <a:solidFill>
                            <a:srgbClr val="463416"/>
                          </a:solidFill>
                          <a:latin typeface="Arial"/>
                        </a:rPr>
                        <a:t>1100 d. C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800" spc="-1" strike="noStrike">
                          <a:solidFill>
                            <a:srgbClr val="463416"/>
                          </a:solidFill>
                          <a:latin typeface="Arial"/>
                        </a:rPr>
                        <a:t>Intermedio tardí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800" spc="-1" strike="noStrike">
                          <a:solidFill>
                            <a:srgbClr val="463416"/>
                          </a:solidFill>
                          <a:latin typeface="Arial"/>
                        </a:rPr>
                        <a:t>Chancay, Chincha, Chachapoyas, Cajamarca, Chimú, Huancas, Señorío Cuzco, Señoríos aymaras, Chancas, Lambayeque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800" spc="-1" strike="noStrike">
                          <a:solidFill>
                            <a:srgbClr val="463416"/>
                          </a:solidFill>
                          <a:latin typeface="Arial"/>
                        </a:rPr>
                        <a:t>600 d. C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800" spc="-1" strike="noStrike">
                          <a:solidFill>
                            <a:srgbClr val="463416"/>
                          </a:solidFill>
                          <a:latin typeface="Arial"/>
                        </a:rPr>
                        <a:t>Horizonte Medi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800" spc="-1" strike="noStrike">
                          <a:solidFill>
                            <a:srgbClr val="463416"/>
                          </a:solidFill>
                          <a:latin typeface="Arial"/>
                        </a:rPr>
                        <a:t>Wari, Tiahuanac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800" spc="-1" strike="noStrike">
                          <a:solidFill>
                            <a:srgbClr val="463416"/>
                          </a:solidFill>
                          <a:latin typeface="Arial"/>
                        </a:rPr>
                        <a:t>200 d. C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800" spc="-1" strike="noStrike">
                          <a:solidFill>
                            <a:srgbClr val="463416"/>
                          </a:solidFill>
                          <a:latin typeface="Arial"/>
                        </a:rPr>
                        <a:t>Intermedio tempran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800" spc="-1" strike="noStrike">
                          <a:solidFill>
                            <a:srgbClr val="463416"/>
                          </a:solidFill>
                          <a:latin typeface="Arial"/>
                        </a:rPr>
                        <a:t>Mochica, Virú, Recuay, Lima, Nazca, Tiahuanaco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800" spc="-1" strike="noStrike">
                          <a:solidFill>
                            <a:srgbClr val="463416"/>
                          </a:solidFill>
                          <a:latin typeface="Arial"/>
                        </a:rPr>
                        <a:t>1200 a. C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800" spc="-1" strike="noStrike">
                          <a:solidFill>
                            <a:srgbClr val="463416"/>
                          </a:solidFill>
                          <a:latin typeface="Arial"/>
                        </a:rPr>
                        <a:t>Horizonte Tempran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800" spc="-1" strike="noStrike">
                          <a:solidFill>
                            <a:srgbClr val="463416"/>
                          </a:solidFill>
                          <a:latin typeface="Arial"/>
                        </a:rPr>
                        <a:t>Pukara, Chavín, Paracas, Salinar, Vicus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800" spc="-1" strike="noStrike">
                          <a:solidFill>
                            <a:srgbClr val="463416"/>
                          </a:solidFill>
                          <a:latin typeface="Arial"/>
                        </a:rPr>
                        <a:t>2000 a. C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800" spc="-1" strike="noStrike">
                          <a:solidFill>
                            <a:srgbClr val="463416"/>
                          </a:solidFill>
                          <a:latin typeface="Arial"/>
                        </a:rPr>
                        <a:t>Precerámic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800" spc="-1" strike="noStrike">
                          <a:solidFill>
                            <a:srgbClr val="463416"/>
                          </a:solidFill>
                          <a:latin typeface="Arial"/>
                        </a:rPr>
                        <a:t>Agricultores/ Horticultor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800" spc="-1" strike="noStrike">
                          <a:solidFill>
                            <a:srgbClr val="463416"/>
                          </a:solidFill>
                          <a:latin typeface="Arial"/>
                        </a:rPr>
                        <a:t>4000 a. C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800" spc="-1" strike="noStrike">
                          <a:solidFill>
                            <a:srgbClr val="463416"/>
                          </a:solidFill>
                          <a:latin typeface="Arial"/>
                        </a:rPr>
                        <a:t>Arcaic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800" spc="-1" strike="noStrike">
                          <a:solidFill>
                            <a:srgbClr val="463416"/>
                          </a:solidFill>
                          <a:latin typeface="Arial"/>
                        </a:rPr>
                        <a:t>Cazadores y recolectores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800" spc="-1" strike="noStrike">
                          <a:solidFill>
                            <a:srgbClr val="463416"/>
                          </a:solidFill>
                          <a:latin typeface="Arial"/>
                        </a:rPr>
                        <a:t>14000 a. C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800" spc="-1" strike="noStrike">
                          <a:solidFill>
                            <a:srgbClr val="463416"/>
                          </a:solidFill>
                          <a:latin typeface="Arial"/>
                        </a:rPr>
                        <a:t>Periodo inici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La periodificación de las culturas peruanas fue propuesta por John Rowe. Quien divide a las culturas peruanas en horizontes e intermedios.</a:t>
            </a:r>
            <a:br>
              <a:rPr sz="2800"/>
            </a:br>
            <a:br>
              <a:rPr sz="2800"/>
            </a:b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1.HORIZONTE: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Son estadios de similitud cultural que abarcan un extenso territorio con tendencias pan andino.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2.INTERMEDIO: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Periodo de diferenciación regional. Aparición de culturas locales con características propias, aunque aun mantienen elementos típicos del horizonte que las precedió.</a:t>
            </a:r>
            <a:br>
              <a:rPr sz="2800"/>
            </a:br>
            <a:br>
              <a:rPr sz="2800"/>
            </a:b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400" spc="-1" strike="noStrike">
                <a:solidFill>
                  <a:srgbClr val="e3e3ff"/>
                </a:solidFill>
                <a:latin typeface="Arial"/>
              </a:rPr>
              <a:t>Teoría autoctonista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Arial"/>
              </a:rPr>
              <a:t>Propuesta por el arqueólogo peruano Julio C. Tello en 1919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Arial"/>
              </a:rPr>
              <a:t>Chavín fue el cimiento de la civilización peruana y de ella partieron las demás civilizaciones peruana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5" descr="tello1a"/>
          <p:cNvPicPr/>
          <p:nvPr/>
        </p:nvPicPr>
        <p:blipFill>
          <a:blip r:embed="rId1"/>
          <a:stretch/>
        </p:blipFill>
        <p:spPr>
          <a:xfrm>
            <a:off x="7066080" y="3929040"/>
            <a:ext cx="2077920" cy="25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400" spc="-1" strike="noStrike">
                <a:solidFill>
                  <a:srgbClr val="e3e3ff"/>
                </a:solidFill>
                <a:latin typeface="Arial"/>
              </a:rPr>
              <a:t>CHAVÍ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34" name="Picture 2" descr="http://upload.wikimedia.org/wikipedia/commons/8/86/Chavin-small.png"/>
          <p:cNvPicPr/>
          <p:nvPr/>
        </p:nvPicPr>
        <p:blipFill>
          <a:blip r:embed="rId1"/>
          <a:stretch/>
        </p:blipFill>
        <p:spPr>
          <a:xfrm>
            <a:off x="2214720" y="1785960"/>
            <a:ext cx="468468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400" spc="-1" strike="noStrike">
                <a:solidFill>
                  <a:srgbClr val="e3e3ff"/>
                </a:solidFill>
                <a:latin typeface="Arial"/>
              </a:rPr>
              <a:t>Teoría aloctonista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Arial"/>
              </a:rPr>
              <a:t>Propuesta por el arqueólogo peruano Federico Kauffman Doi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Arial"/>
              </a:rPr>
              <a:t>Propuso que el origen de la cultura andina provenía de Mesoamérica, la actual Méxic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Picture 6" descr="http://huacrachuco.com/HuacrachucoPhotos/11IMAGE002.JPG"/>
          <p:cNvPicPr/>
          <p:nvPr/>
        </p:nvPicPr>
        <p:blipFill>
          <a:blip r:embed="rId1"/>
          <a:stretch/>
        </p:blipFill>
        <p:spPr>
          <a:xfrm>
            <a:off x="5857920" y="3981600"/>
            <a:ext cx="3286080" cy="28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400" spc="-1" strike="noStrike">
                <a:solidFill>
                  <a:srgbClr val="e3e3ff"/>
                </a:solidFill>
                <a:latin typeface="Arial"/>
              </a:rPr>
              <a:t>MÉXICO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39" name="Picture 2" descr="http://www.excelduc.org.mx/images/contenidos/mapa_mexico.gif"/>
          <p:cNvPicPr/>
          <p:nvPr/>
        </p:nvPicPr>
        <p:blipFill>
          <a:blip r:embed="rId1"/>
          <a:stretch/>
        </p:blipFill>
        <p:spPr>
          <a:xfrm>
            <a:off x="1500120" y="1695600"/>
            <a:ext cx="6648480" cy="51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1T04:03:58Z</dcterms:created>
  <dc:creator>Familia Soto Muñante</dc:creator>
  <dc:description/>
  <dc:language>en-US</dc:language>
  <cp:lastModifiedBy>ELIZABETH</cp:lastModifiedBy>
  <dcterms:modified xsi:type="dcterms:W3CDTF">2009-09-18T23:18:48Z</dcterms:modified>
  <cp:revision>38</cp:revision>
  <dc:subject/>
  <dc:title>Diapositiva 1</dc:title>
</cp:coreProperties>
</file>